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  <p:custShowLst>
    <p:custShow name="Chapter" id="0">
      <p:sldLst>
        <p:sld r:id="rId16"/>
        <p:sld r:id="rId17"/>
        <p:sld r:id="rId20"/>
        <p:sld r:id="rId21"/>
        <p:sld r:id="rId23"/>
        <p:sld r:id="rId24"/>
        <p:sld r:id="rId25"/>
        <p:sld r:id="rId28"/>
      </p:sldLst>
    </p:custShow>
    <p:custShow name="STP" id="1">
      <p:sldLst>
        <p:sld r:id="rId15"/>
        <p:sld r:id="rId18"/>
        <p:sld r:id="rId19"/>
        <p:sld r:id="rId22"/>
        <p:sld r:id="rId26"/>
        <p:sld r:id="rId27"/>
        <p:sld r:id="rId31"/>
        <p:sld r:id="rId32"/>
      </p:sldLst>
    </p:custShow>
    <p:custShow name="Transparencies" id="2">
      <p:sldLst>
        <p:sld r:id="rId29"/>
        <p:sld r:id="rId17"/>
      </p:sldLst>
    </p:custShow>
    <p:custShow name="Section 2" id="3">
      <p:sldLst>
        <p:sld r:id="rId16"/>
        <p:sld r:id="rId17"/>
        <p:sld r:id="rId20"/>
        <p:sld r:id="rId21"/>
        <p:sld r:id="rId23"/>
        <p:sld r:id="rId24"/>
        <p:sld r:id="rId25"/>
        <p:sld r:id="rId2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0428-93DF-465B-BA79-35D9AEF721CC}" type="slidenum">
              <a:rPr b="0" lang="en-US" sz="4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2-31 Degrees of saturatio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atty acids (and thus the fats that contain them) can be unsaturated or saturated; unsaturated fats can be saturated artificially, making them tastier but less healthfu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" Target="slide20.xm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" Target="slide20.xml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" Target="slide20.xml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" Target="slide20.xml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" Target="slide20.xml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" Target="slide20.xml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" Target="slide20.xml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" Target="slide20.xml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" Target="slide20.xml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" Target="slide20.xml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" Target="slide20.xml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" Target="slide20.xml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Rectangle 31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2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3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34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31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32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3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4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31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2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3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34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31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32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3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4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3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4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5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6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1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2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3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4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1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2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3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4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31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2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3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4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31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2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3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4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31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2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3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4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31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2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3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4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31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2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3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4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videos.howstuffworks.com/hsw/5967-chemistry-of-life-carbohydrates-video.htm" TargetMode="External"/><Relationship Id="rId3" Type="http://schemas.openxmlformats.org/officeDocument/2006/relationships/hyperlink" Target="http://videos.howstuffworks.com/hsw/5967-chemistry-of-life-carbohydrates-video.htm" TargetMode="External"/><Relationship Id="rId4" Type="http://schemas.openxmlformats.org/officeDocument/2006/relationships/hyperlink" Target="http://www.youtube.com/watch?v=5GuQh5ARHDw" TargetMode="External"/><Relationship Id="rId5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videos.howstuffworks.com/hsw/5967-chemistry-of-life-carbohydrates-video.htm" TargetMode="External"/><Relationship Id="rId3" Type="http://schemas.openxmlformats.org/officeDocument/2006/relationships/hyperlink" Target="http://videos.howstuffworks.com/hsw/5967-chemistry-of-life-carbohydrates-video.htm" TargetMode="External"/><Relationship Id="rId4" Type="http://schemas.openxmlformats.org/officeDocument/2006/relationships/hyperlink" Target="http://www.youtube.com/watch?v=5GuQh5ARHDw" TargetMode="External"/><Relationship Id="rId5" Type="http://schemas.openxmlformats.org/officeDocument/2006/relationships/hyperlink" Target="http://www.youtube.com/watch?v=V4OPO6JQLOE" TargetMode="External"/><Relationship Id="rId6" Type="http://schemas.openxmlformats.org/officeDocument/2006/relationships/hyperlink" Target="http://www.youtube.com/watch?v=7k2KAfRsZ4Q" TargetMode="External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20.xml"/><Relationship Id="rId3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0.xml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" Target="slide20.xml"/><Relationship Id="rId4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videos.howstuffworks.com/hsw/5967-chemistry-of-life-carbohydrates-video.htm" TargetMode="External"/><Relationship Id="rId3" Type="http://schemas.openxmlformats.org/officeDocument/2006/relationships/hyperlink" Target="http://videos.howstuffworks.com/hsw/5967-chemistry-of-life-carbohydrates-video.htm" TargetMode="External"/><Relationship Id="rId4" Type="http://schemas.openxmlformats.org/officeDocument/2006/relationships/hyperlink" Target="http://www.youtube.com/watch?v=5GuQh5ARHDw" TargetMode="External"/><Relationship Id="rId5" Type="http://schemas.openxmlformats.org/officeDocument/2006/relationships/hyperlink" Target="http://www.youtube.com/watch?v=V4OPO6JQLOE" TargetMode="External"/><Relationship Id="rId6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08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lecules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6"/>
          <p:cNvSpPr/>
          <p:nvPr/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istinguish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tween monosaccharides, disaccharides, and polysaccharides. 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lationship between amino acids and protein structure.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induced fit model of enzyme 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ompa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tructure and function of each of the different types of lip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ompare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nucleic acids DNA and 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lecules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5"/>
          <p:cNvSpPr/>
          <p:nvPr/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ypes of Lip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6"/>
          <p:cNvSpPr/>
          <p:nvPr/>
        </p:nvSpPr>
        <p:spPr>
          <a:xfrm>
            <a:off x="711360" y="1828800"/>
            <a:ext cx="424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hospholip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hospholipids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ch make up plasma membranes, consist of ______ fatty acids and ______  glycerol  and a ________ gro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up mm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7" descr=""/>
          <p:cNvPicPr/>
          <p:nvPr/>
        </p:nvPicPr>
        <p:blipFill>
          <a:blip r:embed="rId2"/>
          <a:stretch/>
        </p:blipFill>
        <p:spPr>
          <a:xfrm>
            <a:off x="4807080" y="1828800"/>
            <a:ext cx="4336920" cy="329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lecules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5"/>
          <p:cNvSpPr/>
          <p:nvPr/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ypes of Lip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6"/>
          <p:cNvSpPr/>
          <p:nvPr/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W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wax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made of one long fatty acid chain joined to one long alcoh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tero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teroid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composed of four fused carbon rings, regulate growth and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7" descr=""/>
          <p:cNvPicPr/>
          <p:nvPr/>
        </p:nvPicPr>
        <p:blipFill>
          <a:blip r:embed="rId2"/>
          <a:stretch/>
        </p:blipFill>
        <p:spPr>
          <a:xfrm>
            <a:off x="711360" y="4572000"/>
            <a:ext cx="3657600" cy="2286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8" descr=""/>
          <p:cNvPicPr/>
          <p:nvPr/>
        </p:nvPicPr>
        <p:blipFill>
          <a:blip r:embed="rId3"/>
          <a:stretch/>
        </p:blipFill>
        <p:spPr>
          <a:xfrm>
            <a:off x="4648320" y="4572000"/>
            <a:ext cx="36702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figure_02_28_02"/>
          <p:cNvPicPr/>
          <p:nvPr/>
        </p:nvPicPr>
        <p:blipFill>
          <a:blip r:embed="rId1"/>
          <a:stretch/>
        </p:blipFill>
        <p:spPr>
          <a:xfrm>
            <a:off x="303120" y="428760"/>
            <a:ext cx="8535960" cy="599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lecules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5"/>
          <p:cNvSpPr/>
          <p:nvPr/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6"/>
          <p:cNvSpPr/>
          <p:nvPr/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istinguish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tween monosaccharides, disaccharides, and polysaccharides. 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lationship between amino acids and protein structure.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induced fit model of enzyme action.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ompa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tructure and function of each of the different types of lipids.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ompare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nucleic acids DNA and 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lecules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5"/>
          <p:cNvSpPr/>
          <p:nvPr/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Nucleic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6"/>
          <p:cNvSpPr/>
          <p:nvPr/>
        </p:nvSpPr>
        <p:spPr>
          <a:xfrm>
            <a:off x="711360" y="1828800"/>
            <a:ext cx="8127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ucleic ac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 large and complex organic molecule that stores and transports genetic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of: ______, _____, ______, and 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omer is called 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ve carbon su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sphat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trogen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2" descr=""/>
          <p:cNvPicPr/>
          <p:nvPr/>
        </p:nvPicPr>
        <p:blipFill>
          <a:blip r:embed="rId2"/>
          <a:stretch/>
        </p:blipFill>
        <p:spPr>
          <a:xfrm>
            <a:off x="5216400" y="3733920"/>
            <a:ext cx="3927600" cy="310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2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cture of Nucleic Acid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6" name="Text Box 4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lecules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11" descr="a28"/>
          <p:cNvPicPr/>
          <p:nvPr/>
        </p:nvPicPr>
        <p:blipFill>
          <a:blip r:embed="rId1"/>
          <a:stretch/>
        </p:blipFill>
        <p:spPr>
          <a:xfrm>
            <a:off x="723960" y="1981080"/>
            <a:ext cx="8007120" cy="331812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16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7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8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9">
            <a:hlinkClick r:id="rId2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lecules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5"/>
          <p:cNvSpPr/>
          <p:nvPr/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Examples of Nucleic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6"/>
          <p:cNvSpPr/>
          <p:nvPr/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ic acid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oxyribonucleic acid (DNA)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ins _________ information for cell activities.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ibonucleic acid (RNA)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ecules play many key roles in __________ of proteins and can act as enzy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denosine triphosphate (ATP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res and releases _________ during cell processes, enabling organisms to func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"/>
          <p:cNvPicPr/>
          <p:nvPr/>
        </p:nvPicPr>
        <p:blipFill>
          <a:blip r:embed="rId1"/>
          <a:stretch/>
        </p:blipFill>
        <p:spPr>
          <a:xfrm>
            <a:off x="1600200" y="46080"/>
            <a:ext cx="6019920" cy="685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bon Comp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5"/>
          <p:cNvSpPr/>
          <p:nvPr/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Energy Cur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6"/>
          <p:cNvSpPr/>
          <p:nvPr/>
        </p:nvSpPr>
        <p:spPr>
          <a:xfrm>
            <a:off x="711360" y="18288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denosine triphosphate (ATP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res and releases energy during cell processes, enabling organisms to function. This also an examples of a hydrolysis reac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17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18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19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20">
            <a:hlinkClick r:id="rId2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21" descr="P0054"/>
          <p:cNvPicPr/>
          <p:nvPr/>
        </p:nvPicPr>
        <p:blipFill>
          <a:blip r:embed="rId3"/>
          <a:stretch/>
        </p:blipFill>
        <p:spPr>
          <a:xfrm>
            <a:off x="0" y="3578400"/>
            <a:ext cx="9144000" cy="21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lecules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5"/>
          <p:cNvSpPr/>
          <p:nvPr/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6"/>
          <p:cNvSpPr/>
          <p:nvPr/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istinguish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tween monosaccharides, disaccharides, and polysaccharides.   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lationship between amino acids and protein structure.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induced fit model of enzyme action.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ompa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tructure and function of each of the different types of lipids.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ompare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nucleic acids DNA and RNA.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6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lecules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5"/>
          <p:cNvSpPr/>
          <p:nvPr/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Enzymes are special 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6"/>
          <p:cNvSpPr/>
          <p:nvPr/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nzy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nzymes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are ____________ that ______ ____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hemical reactions and bind to specific substra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inding of a substrate with an enzyme causes a change in the enzyme’s shape and reduces the activation energy of the re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604" name="Text Box 10"/>
          <p:cNvSpPr/>
          <p:nvPr/>
        </p:nvSpPr>
        <p:spPr>
          <a:xfrm>
            <a:off x="3505320" y="15228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Bio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3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able of Content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ction 1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 Carbon Compound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ction 2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 Molecules of Lif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2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9" name="Text Box 4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lecules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9" descr="a25"/>
          <p:cNvPicPr/>
          <p:nvPr/>
        </p:nvPicPr>
        <p:blipFill>
          <a:blip r:embed="rId2"/>
          <a:stretch/>
        </p:blipFill>
        <p:spPr>
          <a:xfrm>
            <a:off x="754200" y="1600200"/>
            <a:ext cx="7843680" cy="4510080"/>
          </a:xfrm>
          <a:prstGeom prst="rect">
            <a:avLst/>
          </a:prstGeom>
          <a:ln w="0">
            <a:noFill/>
          </a:ln>
        </p:spPr>
      </p:pic>
      <p:sp>
        <p:nvSpPr>
          <p:cNvPr id="521" name="Rectangle 14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15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16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7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3" descr="figure_02_42"/>
          <p:cNvPicPr/>
          <p:nvPr/>
        </p:nvPicPr>
        <p:blipFill>
          <a:blip r:embed="rId1"/>
          <a:stretch/>
        </p:blipFill>
        <p:spPr>
          <a:xfrm>
            <a:off x="838080" y="0"/>
            <a:ext cx="75438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27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lecules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5"/>
          <p:cNvSpPr/>
          <p:nvPr/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6"/>
          <p:cNvSpPr/>
          <p:nvPr/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istinguish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tween monosaccharides, disaccharides, and polysaccharides. 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lationship between amino acids and protein structure.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induced fit model of enzyme action.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ompa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tructure and function of each of the different types of lip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ompare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nucleic acids DNA and 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5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lecules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5"/>
          <p:cNvSpPr/>
          <p:nvPr/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Lip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6"/>
          <p:cNvSpPr/>
          <p:nvPr/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ipids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_________molecules that store energy and are an important part of ________ membra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of : _______, _______, ________ and 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omers are ___________ and _________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lecules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5"/>
          <p:cNvSpPr/>
          <p:nvPr/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Lip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6"/>
          <p:cNvSpPr/>
          <p:nvPr/>
        </p:nvSpPr>
        <p:spPr>
          <a:xfrm>
            <a:off x="711360" y="1676520"/>
            <a:ext cx="27939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atty Ac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atty Aci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branched hydrocarbon molecules that have a hydrophilic end and a hydrophobic 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atu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Unsatu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9" descr=""/>
          <p:cNvPicPr/>
          <p:nvPr/>
        </p:nvPicPr>
        <p:blipFill>
          <a:blip r:embed="rId2"/>
          <a:stretch/>
        </p:blipFill>
        <p:spPr>
          <a:xfrm>
            <a:off x="3624120" y="1905120"/>
            <a:ext cx="5062680" cy="330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figure_02_31"/>
          <p:cNvPicPr/>
          <p:nvPr/>
        </p:nvPicPr>
        <p:blipFill>
          <a:blip r:embed="rId1"/>
          <a:stretch/>
        </p:blipFill>
        <p:spPr>
          <a:xfrm>
            <a:off x="304920" y="216000"/>
            <a:ext cx="8531280" cy="64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lecules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5"/>
          <p:cNvSpPr/>
          <p:nvPr/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ypes of Lip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6"/>
          <p:cNvSpPr/>
          <p:nvPr/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riglycer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Triglycerides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st of ________fatty acids and one molecule of glycerol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ore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1" descr=""/>
          <p:cNvPicPr/>
          <p:nvPr/>
        </p:nvPicPr>
        <p:blipFill>
          <a:blip r:embed="rId2"/>
          <a:stretch/>
        </p:blipFill>
        <p:spPr>
          <a:xfrm>
            <a:off x="1676520" y="3164040"/>
            <a:ext cx="5410080" cy="36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in gibsonbrown</dc:creator>
  <dc:description/>
  <dc:language>en-US</dc:language>
  <cp:lastModifiedBy>rgibsonbrown</cp:lastModifiedBy>
  <cp:lastPrinted>2004-02-20T14:12:55Z</cp:lastPrinted>
  <dcterms:modified xsi:type="dcterms:W3CDTF">2011-02-09T12:58:17Z</dcterms:modified>
  <cp:revision>771</cp:revision>
  <dc:subject/>
  <dc:title>No Slide Title</dc:title>
</cp:coreProperties>
</file>